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E5B1-595A-43D6-A423-FEEEA176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9A3A-E104-49FF-8B87-53DF191D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0B3-7B81-4AAF-B9EE-29FB427C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4B62-4278-44D9-BFDA-027ACA5A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DEA-0A0D-4825-9B55-4938DBD7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537-9FD4-4111-B02E-9EB42CB9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F04-8BD7-42FD-ABB3-B8B41DCA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2640-6A50-43C0-B777-B049DBCC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3CE-8142-4E7C-8A54-7BA51DA4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A079-9145-462B-B863-6313D5D9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1C8B-2C88-4D2C-B868-F39D8825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075-AD55-46B8-A5AD-FF0A0E18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655C-8A03-4B0A-A073-C0911B629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l.wikipedia.org/w/index.php?title=Plik:Menora.sv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l.wikipedia.org/w/index.php?title=Plik:Star_of_David.svg&amp;filetimestamp=200809040912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 u="sng">
                <a:solidFill>
                  <a:srgbClr val="009900"/>
                </a:solidFill>
                <a:uFillTx/>
                <a:latin typeface="Verdana"/>
                <a:ea typeface="Gisha"/>
              </a:rPr>
              <a:t>DZIEŃ JUDAIZMU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7. stycznia obchodzimy XV Dzie</a:t>
            </a:r>
            <a:r>
              <a:rPr b="0" lang="en-US" sz="3000" spc="-1" strike="noStrike">
                <a:solidFill>
                  <a:srgbClr val="000000"/>
                </a:solidFill>
                <a:latin typeface="Angsana New"/>
                <a:ea typeface="Times New Roman"/>
              </a:rPr>
              <a:t>ń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Judaizmu w Pols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1916280"/>
            <a:ext cx="2867040" cy="244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47640" y="1557360"/>
            <a:ext cx="2449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9900"/>
                </a:solidFill>
                <a:uFillTx/>
                <a:latin typeface="Verdana"/>
                <a:ea typeface="Gisha"/>
              </a:rPr>
              <a:t>DZIEŃ JUDAIZM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Główne święta żydowskie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, to – oprócz cotygodniowego szabatu,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Pesach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(Pascha), obchodzone na pamiątkę wyjścia z niewoli egipskiej.W czasie pesach ofiarowało się baranka i spożywało specjalną wieczerzę paschalną. W czasie takiej właśnie wieczerzy Pan Jezus ustanowił Eucharystię. Inne święta to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Szewuot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, Święto Tygodni (Żniwa) i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Sukkot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-Święto Namiotów. Ważnym Świętem jest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Jom Kippur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– Dzień Przebłagania, gdy pokutuje się za grzechy; ulubiona przez dzieci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Chanuka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obchodzona mniej więcej w okresie naszego Bożego Narodzenia (są to bardzo radosne święta, trwające 8 dni; dzieci dostają prezenty i grają w specjalną grę, zwaną dreidel), oraz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Purim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, na pamiątkę ocalenia życia narodu przez królową Esterę. Każde święto ma swe specjalne potrawy i smakołyki, poza Jom Kippur, gdy obowiązuje  ścisły p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258920" y="4919760"/>
            <a:ext cx="4392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9900"/>
                </a:solidFill>
                <a:uFillTx/>
                <a:latin typeface="Verdana"/>
                <a:ea typeface="Gisha"/>
              </a:rPr>
              <a:t>DZIEŃ JUDAIZM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56944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Czego możemy nauczyć się od judaizm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Na pewno </a:t>
            </a: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szacunku dla Pisma Świętego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. W każdym żydowskim domu Biblia (zwana TANACH) ma swe honorowe miejsce, jest czczona, czytana i znana. Dzieci żydowskie uczą się na pamięć całych jej fragmentów. Zniszczoną grzebie się jak szczątki ludzkie na cmentarzu-geniz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Żydzi mają specjalne święto Radości z Pisma św.: Simchat Tora, kiedy dziękują Bogu za nie i tańczą ze zwoj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Dalej: </a:t>
            </a: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poszanowania dla Imienia Bożego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. Żydzi nie wymawiają Imienia Boga, by nie skalać go grzesznymi ustami. W jego miejsce wymawiają ”Adonai” czyli P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Także: </a:t>
            </a: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uszanowania dnia świętego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. W szabat czyli święty dzień judaizmu (sobota) naprawdę nie podejmuje się żadnych prac, nie ma mowy o zakupach, są modły w synagodze, a w domu uroczysta wieczerza z modlitw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588000" y="-1440"/>
            <a:ext cx="2556000" cy="1803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380360" y="3860640"/>
            <a:ext cx="1143000" cy="1019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859280" y="3743280"/>
            <a:ext cx="172872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9900"/>
                </a:solidFill>
                <a:uFillTx/>
                <a:latin typeface="Verdana"/>
                <a:ea typeface="Gisha"/>
              </a:rPr>
              <a:t>DZIEŃ JUDAIZM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700" spc="-1" strike="noStrike" u="sng">
                <a:solidFill>
                  <a:srgbClr val="000000"/>
                </a:solidFill>
                <a:uFillTx/>
                <a:latin typeface="Arial"/>
              </a:rPr>
              <a:t>Antysemityzm –</a:t>
            </a:r>
            <a:r>
              <a:rPr b="0" i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czyli wroga postawa wobec Żyd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i ich religii, wyrażająca się w słowach, czynach, lekceważeniu, a nawet pogardzie, jest nie do pogodzenia z nauką katolick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Jan Paweł II wyraźnie nazwał antysemityzm grzechem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owtórzył to Benedykt XVI, a  Metropolita Krakowski, Kard.Stanisław Dziwisz powiedział: „Nie ustawajmy w sprzeciwie wobec antysemityzmu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Zwłaszcza, że Polska jest wielkim cmentarzem tego narodu: w czasie wojny hitlerowcy wymordowali 6 mln Żydów, którzy byli naszymi sąsiadami i współobywatelami, w tym maleńkie dzieci, ludzie starych i chorych. Powinniśmy szanować ich pamięć i cierpi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827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399960"/>
            <a:ext cx="426744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eą Dnia Judaizmu jest lepsze poznan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 szacunek wobec  naszych „Starszych braci w wierze”- jak nazwał Żydów Jan Paweł II. Chodzi także o wychowanie w duchu dialogu i ocalenie ginącej pamięci po tych, którzy przed wojną i straszną tragedią Holokaustu,  stanowili znaczący procent mieszkańców naszego kra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naszego mia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76640" y="274680"/>
            <a:ext cx="990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9900"/>
                </a:solidFill>
                <a:uFillTx/>
                <a:latin typeface="Verdana"/>
                <a:ea typeface="Gisha"/>
              </a:rPr>
              <a:t>DZIEŃ JUDAIZM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5700" spc="-1" strike="noStrike">
                <a:solidFill>
                  <a:srgbClr val="000000"/>
                </a:solidFill>
                <a:latin typeface="Arial"/>
              </a:rPr>
              <a:t>Judaizm 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to religia Żydów – Narodu Wybranego. Opiera się na Bożym Objawieniu Starego Testamentu. Jej podstawą jest 10 przykazań i Tora, czyli Pięcioksiąg Mojżes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an Jezus urodził się i wychował w judaizmie, tę religię wyznawała Matka Boża, św.Józef, św.Piotr, św.Paweł i inni  Apostołow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411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9900"/>
                </a:solidFill>
                <a:uFillTx/>
                <a:latin typeface="Verdana"/>
                <a:ea typeface="Gisha"/>
              </a:rPr>
              <a:t>DZIEŃ JUDAIZM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pl-PL" sz="2200" spc="-1" strike="noStrike" u="sng">
                <a:solidFill>
                  <a:srgbClr val="000000"/>
                </a:solidFill>
                <a:uFillTx/>
                <a:latin typeface="Arial"/>
              </a:rPr>
              <a:t>Kościół,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 słowami Soboru Watykańskiego II i Jana Pawła II, </a:t>
            </a:r>
            <a:r>
              <a:rPr b="0" i="1" lang="pl-PL" sz="2200" spc="-1" strike="noStrike" u="sng">
                <a:solidFill>
                  <a:srgbClr val="000000"/>
                </a:solidFill>
                <a:uFillTx/>
                <a:latin typeface="Arial"/>
              </a:rPr>
              <a:t>uznał Żydów za „starszych braci w wierze”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 i okazuje im swój szacunek. Sługa Boży Jan Paweł II znany jest z wielu gestów przyjaźni i poszanowania wobec judaizmu: odwiedził rzymską synagogę, modlił się pod Ścianą Płaczu – jedynym ocalałym fragmentem Świątyni Jerozolimskiej, zburzonej przez Rzymian w 70 roku, w jej szczelinach-wzorem Żydów-zostawił kwitłech: karteczkę z modlitw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Papież- Polak spotykał się wielokrotn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z rabinami żydowskimi, okazując im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szacunek. Benedykt XVI kontynuu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tę linię dialogu, współpracy dla pokoj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i poszanowan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-34920"/>
            <a:ext cx="2016360" cy="165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08720" y="4124160"/>
            <a:ext cx="363528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9900"/>
                </a:solidFill>
                <a:uFillTx/>
                <a:latin typeface="Verdana"/>
                <a:ea typeface="Gisha"/>
              </a:rPr>
              <a:t>DZIEŃ JUDAIZM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blia w synagodze przechowywana i używana jest w postaci zwojów. Po literach wodzi się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jade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specjalną wskazówk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116000" cy="797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16360" y="3139920"/>
            <a:ext cx="3600720" cy="2833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5280" y="5300640"/>
            <a:ext cx="2467080" cy="1019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908000" y="3716280"/>
            <a:ext cx="21607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9900"/>
                </a:solidFill>
                <a:uFillTx/>
                <a:latin typeface="Verdana"/>
                <a:ea typeface="Gisha"/>
              </a:rPr>
              <a:t>DZIEŃ JUDAIZM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armułka czyli kipa – czapeczka używana zwłaszcza przy modlitwie oraz w czasie wizyty na cmentarzu, gdyż Żydzi  mają obowiązek modlitwy w nakryciu głow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11280" y="4365720"/>
            <a:ext cx="2376360" cy="2049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492360" y="4508640"/>
            <a:ext cx="2476800" cy="2095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156360" y="4292640"/>
            <a:ext cx="277164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9900"/>
                </a:solidFill>
                <a:uFillTx/>
                <a:latin typeface="Verdana"/>
                <a:ea typeface="Gisha"/>
              </a:rPr>
              <a:t>DZIEŃ JUDAIZM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Mezuza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 – przybijany do odrzwi w ozdobnym „pudełeczku” fragment Biblii: „Słuchaj Izraelu, Pan twoim Bogiem, Pan jedyny” -tzw. Modlitwy Szema. Przy wychodzeniu i wchodzeniu, dotyka się go pobożnie palcami, a następnie u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443640" y="476280"/>
            <a:ext cx="1187640" cy="847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564000" y="4581360"/>
            <a:ext cx="160020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9900"/>
                </a:solidFill>
                <a:uFillTx/>
                <a:latin typeface="Verdana"/>
                <a:ea typeface="Gisha"/>
              </a:rPr>
              <a:t>DZIEŃ JUDAIZM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modlitwy, oprócz nakrycia głowy, używa się szala modlitewnego, zwaneg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łese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az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lakterii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kórzanych pudełeczek z fragmentami Biblii, przymocowanych do czoła i przedramieni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1042920" cy="898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002360" y="3933720"/>
            <a:ext cx="2141640" cy="2924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635280" y="4437000"/>
            <a:ext cx="31212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00:02:54Z</dcterms:created>
  <dc:creator>Rodzinka</dc:creator>
  <dc:description/>
  <dc:language>en-US</dc:language>
  <cp:lastModifiedBy>Rodzinka</cp:lastModifiedBy>
  <dcterms:modified xsi:type="dcterms:W3CDTF">2012-05-07T15:54:16Z</dcterms:modified>
  <cp:revision>7</cp:revision>
  <dc:subject/>
  <dc:title>DZIEŃ JUDAIZMU</dc:title>
</cp:coreProperties>
</file>